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08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6634-3D88-4671-B2ED-9926F29CE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30E2-9377-4367-A9E3-D00AE589FD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F3E5-C9A1-4E13-975F-DBDD7B7106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4A5E-9575-413B-BF66-67DD0E46DA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5D17-A7B8-4968-969E-759720B735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06CA-A3CC-4261-8B15-532E0C0FC4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CA1-77AC-4627-A75B-B63C3E9EBC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A444-97A9-4BE7-8DE3-79A6537905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4743-7258-46FE-A89F-1D1AE8584D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46E7-242E-47D0-8C08-3670D09654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236E-7E06-4AF2-B790-B03C86D5CC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5A36-59AD-4683-9D0E-1AA15B7763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70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54F-F652-4598-8245-D0BBCBC4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AFB-43C5-46D5-8794-8D40D26B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31D-967F-488F-A765-F9494554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6F4-C4C0-4657-A008-2C2DA00D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7449-1BFC-455A-BDA6-5FFECEE8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248E-A75C-4440-AB16-8615AE42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3887-A397-4BB7-95A5-598FAE10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8394-5AF1-49E5-A1C0-4767EDED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8677-4E8F-4ED4-9126-7364E453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87A8-8807-46BC-A657-D4C926BF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0290-CE2C-49CA-A8CA-6F7D6C69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C87-F955-4FCC-B654-7967E0F9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AFA1-D120-4713-BEA7-22AD99E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21FD-0180-43C6-A5F9-B43E2D74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55FA-00AC-4881-A787-7ECBC93B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98C2-33E0-433E-8499-6CDE6B31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F162-6066-44EA-A1DF-1D11C809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0FF-151C-47BF-8997-F92AC089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6B7-2398-42E5-B249-29A810F6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25A-563A-496C-A910-1567BB2C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4A1-62E8-4FA2-8417-51C5ACC0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5F7-625D-4862-8234-7769C613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68E-77D6-4DFC-892E-58EBBDA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0B0-817D-458E-9341-48057596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jeas.gr.jp/index.html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jeas.gr.jp/index.html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4141-4426-4EA9-8FCE-9193F6042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JE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6308640"/>
            <a:ext cx="1008000" cy="549360"/>
          </a:xfrm>
          <a:prstGeom prst="rect">
            <a:avLst/>
          </a:prstGeom>
          <a:ln w="0">
            <a:noFill/>
          </a:ln>
        </p:spPr>
      </p:pic>
      <p:sp>
        <p:nvSpPr>
          <p:cNvPr id="4" name="Text Box 9"/>
          <p:cNvSpPr/>
          <p:nvPr/>
        </p:nvSpPr>
        <p:spPr>
          <a:xfrm>
            <a:off x="971640" y="6567480"/>
            <a:ext cx="30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77777"/>
                </a:solidFill>
                <a:latin typeface="Arial"/>
              </a:rPr>
              <a:t>工業会 日本万引防止システム協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4"/>
          <a:stretch/>
        </p:blipFill>
        <p:spPr>
          <a:xfrm>
            <a:off x="826920" y="11160"/>
            <a:ext cx="7407360" cy="6423120"/>
          </a:xfrm>
          <a:prstGeom prst="rect">
            <a:avLst/>
          </a:prstGeom>
          <a:ln w="0">
            <a:noFill/>
          </a:ln>
        </p:spPr>
      </p:pic>
      <p:sp>
        <p:nvSpPr>
          <p:cNvPr id="6" name="正方形/長方形 3"/>
          <p:cNvSpPr/>
          <p:nvPr/>
        </p:nvSpPr>
        <p:spPr>
          <a:xfrm>
            <a:off x="0" y="11160"/>
            <a:ext cx="9036000" cy="64231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JE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6308640"/>
            <a:ext cx="1008000" cy="549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971640" y="6567480"/>
            <a:ext cx="30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77777"/>
                </a:solidFill>
                <a:latin typeface="Arial"/>
              </a:rPr>
              <a:t>工業会 日本万引防止システム協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826920" y="11160"/>
            <a:ext cx="7407360" cy="6423120"/>
          </a:xfrm>
          <a:prstGeom prst="rect">
            <a:avLst/>
          </a:prstGeom>
          <a:ln w="0">
            <a:noFill/>
          </a:ln>
        </p:spPr>
      </p:pic>
      <p:sp>
        <p:nvSpPr>
          <p:cNvPr id="46" name="正方形/長方形 3"/>
          <p:cNvSpPr/>
          <p:nvPr/>
        </p:nvSpPr>
        <p:spPr>
          <a:xfrm>
            <a:off x="0" y="11160"/>
            <a:ext cx="9036000" cy="64231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31440" y="544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153D-5064-4553-BB69-638D973CE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www.jeas.gr.jp/seminar/questionnaire/" TargetMode="External"/><Relationship Id="rId3" Type="http://schemas.openxmlformats.org/officeDocument/2006/relationships/hyperlink" Target="https://www.jeas.gr.jp/20230602.zip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196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A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通常総会・記念講演会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オンライン参加の皆様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560" y="1166760"/>
            <a:ext cx="9109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申込されたとき、宛名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本万引防止システム協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件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（金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:00-16: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工業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常総会・記念講演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教育を小売業全体で実践！そして宇宙への道」を開催します。 に登録されていま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メールが届いていると思いますので、そのアドレスから参加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お、そのメールが見当たらない。または、接続できないという場合は、以下のアドレスから参加ください。その際、マイクとカメラ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teams.microsoft.com/l/meetup-join/19%3ameeting_OGUyNmQ5OWUtMzYyNy00NTE5LWE1OTMtNzE2NTJlMGE4ZjEx%40thread.v2/0?context=%7b%22Tid%22%3a%221501c521-6b11-4c08-890d-5bdaa5da1e48%22%2c%22Oid%22%3a%22b627f380-36d0-488a-93a5-39982e37076c%22%7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資料格納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当日午前までに格納する予定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jeas.gr.jp/20230602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48C-0DEA-4302-B56A-5940E07D0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1B50-6BAA-4123-96A2-318E5DE39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480960" y="13176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工業会　日本万引防止システム協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通常総会・記念講演会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1"/>
          <p:cNvSpPr/>
          <p:nvPr/>
        </p:nvSpPr>
        <p:spPr>
          <a:xfrm>
            <a:off x="2195640" y="2225520"/>
            <a:ext cx="5040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14:00</a:t>
            </a:r>
            <a:r>
              <a:rPr b="0" lang="ja-JP" sz="5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まで休憩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B409-7D84-41D9-8EC6-AC8FF9E03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80960" y="13176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工業会　日本万引防止システム協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通常総会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6"/>
          <p:cNvSpPr/>
          <p:nvPr/>
        </p:nvSpPr>
        <p:spPr>
          <a:xfrm>
            <a:off x="611280" y="2446200"/>
            <a:ext cx="85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１．“学校教育の未来と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ICT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活用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神奈川大学附属中・高等学校副校長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宇宙エレベーターロボット競技会実行委員長     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　　小林　道夫 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登壇者資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EC52-E329-4C40-A60F-1EC73F450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別資料をご覧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478A-8645-4C60-8CBE-51931B1C5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80960" y="13176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工業会　日本万引防止システム協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通常総会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6"/>
          <p:cNvSpPr/>
          <p:nvPr/>
        </p:nvSpPr>
        <p:spPr>
          <a:xfrm>
            <a:off x="324000" y="1844640"/>
            <a:ext cx="871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２．“小売業のチエックアウト改革と防犯・ロス対策のチャレン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一般社団法人リテール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A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研究会 理事  株式会社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Retail AI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兼  株式会社トライアルホールディングス エグゼクティブアドバイザ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　　　　西川　晋二 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登壇者資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6C11-C78D-423B-A5DC-7626A7632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別資料をご覧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DDBC-5D4D-4CC8-A448-8177070ED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80960" y="13176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工業会　日本万引防止システム協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通常総会・特別講演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1"/>
          <p:cNvSpPr/>
          <p:nvPr/>
        </p:nvSpPr>
        <p:spPr>
          <a:xfrm>
            <a:off x="324000" y="1538280"/>
            <a:ext cx="8712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　　　　　　　　　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来賓ご挨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　　　　個人情報保護委員会事務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　　　　　　　　　　　企画官　大星　光弘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920" y="126720"/>
            <a:ext cx="8858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　御　礼</a:t>
            </a:r>
            <a:br>
              <a:rPr sz="44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は最後まで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総会・特別講演会をご清聴いただき有難うございました。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今後も当工業会をよろしくお願いし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ABDE-0BC2-4BDA-B5C4-1A2F211EA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図 3" descr="QR コード&#10;&#10;自動的に生成された説明"/>
          <p:cNvPicPr/>
          <p:nvPr/>
        </p:nvPicPr>
        <p:blipFill>
          <a:blip r:embed="rId1"/>
          <a:stretch/>
        </p:blipFill>
        <p:spPr>
          <a:xfrm>
            <a:off x="287280" y="3009960"/>
            <a:ext cx="1136880" cy="1138320"/>
          </a:xfrm>
          <a:prstGeom prst="rect">
            <a:avLst/>
          </a:prstGeom>
          <a:ln w="0">
            <a:noFill/>
          </a:ln>
        </p:spPr>
      </p:pic>
      <p:sp>
        <p:nvSpPr>
          <p:cNvPr id="163" name="テキスト ボックス 4"/>
          <p:cNvSpPr/>
          <p:nvPr/>
        </p:nvSpPr>
        <p:spPr>
          <a:xfrm>
            <a:off x="142920" y="210168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視聴後にアンケート のご協力をお願いしております。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7"/>
          <p:cNvSpPr/>
          <p:nvPr/>
        </p:nvSpPr>
        <p:spPr>
          <a:xfrm>
            <a:off x="1424160" y="3084480"/>
            <a:ext cx="56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jeas.gr.jp/seminar/questionnair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正方形/長方形 1"/>
          <p:cNvSpPr/>
          <p:nvPr/>
        </p:nvSpPr>
        <p:spPr>
          <a:xfrm>
            <a:off x="376200" y="4522680"/>
            <a:ext cx="864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日の資料格納先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ww.jeas.gr.jp/20230602.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ロスプリベンションへの道シーズン３　～コロナ時代に萌芽させた活動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jeas.gr.jp/pdf/road/situation55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テキスト ボックス 1"/>
          <p:cNvSpPr/>
          <p:nvPr/>
        </p:nvSpPr>
        <p:spPr>
          <a:xfrm>
            <a:off x="179280" y="52560"/>
            <a:ext cx="9144000" cy="77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工業会　日本万引防止システム協会 令和</a:t>
            </a:r>
            <a:r>
              <a:rPr b="1" lang="en-US" sz="22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年度通常総会開催概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70c0"/>
                </a:solidFill>
                <a:latin typeface="Arial"/>
              </a:rPr>
              <a:t>・・・ロス対策・パラダイムシフト＊つながる心が生む新世界～協働防犯～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日時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日（金）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0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（受付開始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第１部　総会　　　　　　　　　　　　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3:0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3:4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　＜主婦会館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9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階スズラ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１．開会、２．会長挨拶、３．議長選出、４．議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第１号議案：令和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度事業報告、収支決算の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号議案：推薦製品制度の発令、推薦製品の紹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号議案：令和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度組織・人事の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号議案：令和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度事業計画、収支予算の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新役員挨拶、新会員への会員証授与、記念写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５．閉会　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3:2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頃を予定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６．推薦製品認定制度やセルフレジ対策進捗の報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７．感謝状贈呈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株式会社三宅 代表取締役社長 三宅 正光 氏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JEAS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副会長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一般財団法人流通システム開発センター元調査部長　佐藤 聖 氏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JEAS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顧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北海道大学　　准教授　　日景 隆　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ひかり総合法律事務所 弁護士 板倉陽一郎 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８．来賓挨拶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総務省　総合通信基盤局　電波部電波環境課　  課長補佐　藤原史隆 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第２部　記念講演会　　　　　　　　　　 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4:0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6:0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　＜主婦会館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9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階スズラ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特別講演のテーマ：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ICT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教育を小売業全体で実践！そして宇宙への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１．“学校教育の未来と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ICT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活用＜仮題＞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神奈川大学附属中・高等学校副校長　宇宙エレベーターロボット競技会実行委員長    小林道夫 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２．“小売業のチエックアウト改革と防犯・ロス対策のチャレンジ＜仮題＞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一般社団法人リテー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I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研究会 理事  株式会社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Retail AI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兼  株式会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　　 　　トライアルホールディングス エグゼクティブアドバイザー 　西川晋二 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  ３．来賓挨拶　    個人情報保護委員会事務局　　　　　 企画官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大星光弘 様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　　　　　　　　　　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諸般の事情により、内容や発表順が変更となる場合があ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正方形/長方形 1"/>
          <p:cNvSpPr/>
          <p:nvPr/>
        </p:nvSpPr>
        <p:spPr>
          <a:xfrm>
            <a:off x="4427640" y="6485040"/>
            <a:ext cx="44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ＭＳ Ｐゴシック"/>
              </a:rPr>
              <a:t>各自</a:t>
            </a:r>
            <a:r>
              <a:rPr b="1" lang="en-US" sz="1600" spc="-1" strike="noStrike">
                <a:solidFill>
                  <a:srgbClr val="ff0000"/>
                </a:solidFill>
                <a:latin typeface="ＭＳ Ｐゴシック"/>
              </a:rPr>
              <a:t>PC</a:t>
            </a:r>
            <a:r>
              <a:rPr b="1" lang="ja-JP" sz="1600" spc="-1" strike="noStrike">
                <a:solidFill>
                  <a:srgbClr val="ff0000"/>
                </a:solidFill>
                <a:latin typeface="ＭＳ Ｐゴシック"/>
              </a:rPr>
              <a:t>のカメラとマイクは</a:t>
            </a:r>
            <a:r>
              <a:rPr b="1" lang="en-US" sz="1600" spc="-1" strike="noStrike">
                <a:solidFill>
                  <a:srgbClr val="ff0000"/>
                </a:solidFill>
                <a:latin typeface="ＭＳ Ｐゴシック"/>
              </a:rPr>
              <a:t>OFF</a:t>
            </a:r>
            <a:r>
              <a:rPr b="1" lang="ja-JP" sz="1600" spc="-1" strike="noStrike">
                <a:solidFill>
                  <a:srgbClr val="ff0000"/>
                </a:solidFill>
                <a:latin typeface="ＭＳ Ｐゴシック"/>
              </a:rPr>
              <a:t>でお願い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788E-41F4-4990-80E6-6BD653EBB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893880" y="692280"/>
            <a:ext cx="735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工業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日本万引防止システム協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令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年度通常総会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72560" y="2816280"/>
            <a:ext cx="7598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部　総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（オンライン併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正方形/長方形 1"/>
          <p:cNvSpPr/>
          <p:nvPr/>
        </p:nvSpPr>
        <p:spPr>
          <a:xfrm>
            <a:off x="755640" y="475632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日の資料格納先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jeas.gr.jp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23060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1463-95FA-4AB4-BF32-DC73F0098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480960" y="13176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工業会　日本万引防止システム協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通常総会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6"/>
          <p:cNvSpPr/>
          <p:nvPr/>
        </p:nvSpPr>
        <p:spPr>
          <a:xfrm>
            <a:off x="324000" y="1413000"/>
            <a:ext cx="87087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・・　新役員挨拶、新会員紹介　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　リアルネットワークス（株）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 高村 徳明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顧問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元（株）オカムラ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雑賀  真良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会員　（株）サイエンスアーツ　　　　　　    平岡竜太朗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会員　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　　　  江尻　健司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1"/>
          <p:cNvSpPr/>
          <p:nvPr/>
        </p:nvSpPr>
        <p:spPr>
          <a:xfrm>
            <a:off x="7238520" y="3500280"/>
            <a:ext cx="13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um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525F-EB40-43B8-B6E6-E30190AC6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80960" y="13176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工業会　日本万引防止システム協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通常総会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6"/>
          <p:cNvSpPr/>
          <p:nvPr/>
        </p:nvSpPr>
        <p:spPr>
          <a:xfrm>
            <a:off x="160200" y="1341360"/>
            <a:ext cx="885204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回理事会にて、「推薦製品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.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して、環境センサー搭載のクラウド型カメラにより各種の分析ができる高千穂交易（株）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ad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ベルカダ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認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ウド型 統合セキュリティソリューショ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ad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ヴェルカダ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takachiho-kk.co.jp/prod/enterleave/verkad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図 7" descr=""/>
          <p:cNvPicPr/>
          <p:nvPr/>
        </p:nvPicPr>
        <p:blipFill>
          <a:blip r:embed="rId1"/>
          <a:stretch/>
        </p:blipFill>
        <p:spPr>
          <a:xfrm>
            <a:off x="480960" y="2276640"/>
            <a:ext cx="4856040" cy="3454200"/>
          </a:xfrm>
          <a:prstGeom prst="rect">
            <a:avLst/>
          </a:prstGeom>
          <a:ln w="0">
            <a:noFill/>
          </a:ln>
        </p:spPr>
      </p:pic>
      <p:pic>
        <p:nvPicPr>
          <p:cNvPr id="114" name="図 9" descr=""/>
          <p:cNvPicPr/>
          <p:nvPr/>
        </p:nvPicPr>
        <p:blipFill>
          <a:blip r:embed="rId2"/>
          <a:stretch/>
        </p:blipFill>
        <p:spPr>
          <a:xfrm>
            <a:off x="5494320" y="2276640"/>
            <a:ext cx="2811600" cy="280980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6A75-F73B-4A5D-A23C-03AEBF996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80960" y="13176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工業会　日本万引防止システム協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通常総会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正方形/長方形 1"/>
          <p:cNvSpPr/>
          <p:nvPr/>
        </p:nvSpPr>
        <p:spPr>
          <a:xfrm>
            <a:off x="52560" y="1371600"/>
            <a:ext cx="90676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           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　　　 ・・・　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感謝状贈呈　・・・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株式会社三宅 代表取締役社長 三宅 正光 氏（</a:t>
            </a:r>
            <a:r>
              <a:rPr b="0" lang="en-US" sz="25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JEAS</a:t>
            </a:r>
            <a:r>
              <a:rPr b="0" lang="ja-JP" sz="25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副会長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一般財団法人流通システム開発センター元調査部長　佐藤 聖 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　　　　　　　　　　　　　　　　　　　　　　　　　　　　　（</a:t>
            </a:r>
            <a:r>
              <a:rPr b="0" lang="en-US" sz="25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JEAS</a:t>
            </a:r>
            <a:r>
              <a:rPr b="0" lang="ja-JP" sz="25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顧問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北海道大学　　准教授　　日景 隆　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ひかり総合法律事務所 弁護士 板倉 陽一郎 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スライド番号プレースホルダー 5"/>
          <p:cNvSpPr/>
          <p:nvPr/>
        </p:nvSpPr>
        <p:spPr>
          <a:xfrm>
            <a:off x="6558120" y="678672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3914-DE3A-4655-BA3D-AA94A7E50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80960" y="13176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工業会　日本万引防止システム協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通常総会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1"/>
          <p:cNvSpPr/>
          <p:nvPr/>
        </p:nvSpPr>
        <p:spPr>
          <a:xfrm>
            <a:off x="609480" y="1700280"/>
            <a:ext cx="8210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図 3" descr="文字が書かれている&#10;&#10;自動的に生成された説明"/>
          <p:cNvPicPr/>
          <p:nvPr/>
        </p:nvPicPr>
        <p:blipFill>
          <a:blip r:embed="rId1"/>
          <a:stretch/>
        </p:blipFill>
        <p:spPr>
          <a:xfrm>
            <a:off x="1530360" y="4025880"/>
            <a:ext cx="2322360" cy="2130480"/>
          </a:xfrm>
          <a:prstGeom prst="rect">
            <a:avLst/>
          </a:prstGeom>
          <a:ln w="0">
            <a:noFill/>
          </a:ln>
        </p:spPr>
      </p:pic>
      <p:sp>
        <p:nvSpPr>
          <p:cNvPr id="123" name="テキスト ボックス 9"/>
          <p:cNvSpPr/>
          <p:nvPr/>
        </p:nvSpPr>
        <p:spPr>
          <a:xfrm>
            <a:off x="411120" y="1273320"/>
            <a:ext cx="860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第４回推奨顔認証システム制度の開催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第４回推奨顔認証システム申込受付中　審査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中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案内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www.jeas.gr.jp/pdf/20230424-1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正方形/長方形 4"/>
          <p:cNvSpPr/>
          <p:nvPr/>
        </p:nvSpPr>
        <p:spPr>
          <a:xfrm>
            <a:off x="1042920" y="62499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3" descr=""/>
          <p:cNvPicPr/>
          <p:nvPr/>
        </p:nvPicPr>
        <p:blipFill>
          <a:blip r:embed="rId2"/>
          <a:stretch/>
        </p:blipFill>
        <p:spPr>
          <a:xfrm>
            <a:off x="4684680" y="3895560"/>
            <a:ext cx="33829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4C82-D8B3-47AC-868D-240265378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80960" y="13176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工業会　日本万引防止システム協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通常総会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7"/>
          <p:cNvSpPr/>
          <p:nvPr/>
        </p:nvSpPr>
        <p:spPr>
          <a:xfrm>
            <a:off x="369720" y="1579680"/>
            <a:ext cx="831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第３回科学保安講習会の開催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回科学保安講習会開催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日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回科学保安前講習開催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jeas.gr.jp/pdf/20221222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996840" y="3844800"/>
            <a:ext cx="3559320" cy="2208240"/>
          </a:xfrm>
          <a:prstGeom prst="rect">
            <a:avLst/>
          </a:prstGeom>
          <a:ln w="0">
            <a:noFill/>
          </a:ln>
        </p:spPr>
      </p:pic>
      <p:pic>
        <p:nvPicPr>
          <p:cNvPr id="131" name="図 2" descr=""/>
          <p:cNvPicPr/>
          <p:nvPr/>
        </p:nvPicPr>
        <p:blipFill>
          <a:blip r:embed="rId2"/>
          <a:stretch/>
        </p:blipFill>
        <p:spPr>
          <a:xfrm>
            <a:off x="5127480" y="3844800"/>
            <a:ext cx="308448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3FE6-7169-4131-B81F-07D99B2C0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480960" y="13176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工業会　日本万引防止システム協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令和５年度通常総会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"/>
          <p:cNvSpPr/>
          <p:nvPr/>
        </p:nvSpPr>
        <p:spPr>
          <a:xfrm>
            <a:off x="855720" y="59817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各自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カメラとマイク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1"/>
          <p:cNvSpPr/>
          <p:nvPr/>
        </p:nvSpPr>
        <p:spPr>
          <a:xfrm>
            <a:off x="0" y="206064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来賓挨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総務省総合通信基盤局　電波部電波環境課　  課長補佐　藤原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史隆 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9:22:10Z</dcterms:created>
  <dc:creator>yinamoto</dc:creator>
  <dc:description/>
  <dc:language>en-US</dc:language>
  <cp:lastModifiedBy>JEAS 事務局</cp:lastModifiedBy>
  <cp:lastPrinted>2019-06-02T01:32:22Z</cp:lastPrinted>
  <dcterms:modified xsi:type="dcterms:W3CDTF">2023-06-01T03:35:09Z</dcterms:modified>
  <cp:revision>182</cp:revision>
  <dc:subject/>
  <dc:title>スライド 1</dc:title>
</cp:coreProperties>
</file>